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27901"/>
        <c:axId val="23103461"/>
      </c:barChart>
      <c:catAx>
        <c:axId val="63727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3461"/>
        <c:crosses val="autoZero"/>
        <c:auto val="1"/>
        <c:lblAlgn val="ctr"/>
        <c:lblOffset val="100"/>
        <c:noMultiLvlLbl val="0"/>
      </c:catAx>
      <c:valAx>
        <c:axId val="23103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27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E22-4051-4A60-B494-509B7922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268-79A9-40B7-ADAF-FDE60250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CE7-6ED4-44B6-BC23-D026E3E7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6C4-57D1-48E6-BDA9-9E8A02C1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576-2D17-405E-A813-CD46ED8C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335-3B00-4D33-A874-91107B0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34C-3B63-46A9-8B37-BD8CEFA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1BE-528E-481A-8006-5FE286B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CFD-BF95-4675-8A9E-FCF1564F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FFE-142F-4269-8FA9-B092B9A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53-FB38-4B9C-ABAF-97465054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D4F-D2A0-4E7F-BB02-F98F32FF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A9DB9-143E-4D8D-933C-6E56200BF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