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460607"/>
        <c:axId val="17760464"/>
      </c:barChart>
      <c:catAx>
        <c:axId val="634606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60464"/>
        <c:crosses val="autoZero"/>
        <c:auto val="1"/>
        <c:lblAlgn val="ctr"/>
        <c:lblOffset val="100"/>
        <c:noMultiLvlLbl val="0"/>
      </c:catAx>
      <c:valAx>
        <c:axId val="17760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606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BDF-BE33-4A4D-8D04-DE6885B4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FC8-51A3-4EA2-85F4-C20984B5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2AF-9E48-4C7B-BE1A-011DE5BF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09F-7B22-4F8F-AEC0-ABF7192C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D277-5447-4588-AE10-65E67FF3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07D-54EE-4619-A874-1827D9DA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76C-A736-4734-9FFC-8B46FC90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122-25D5-4CA8-B165-1F16A08B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6B5-DF5B-4945-A1E2-19179A23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7A8-468F-4710-8965-2D66F003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C274-79E0-476E-AAF8-3CEAC815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9EC-F780-4E0E-8EA3-CDE7B0E7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EACB2-BFFF-4416-924B-F445D62B82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