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31394"/>
        <c:axId val="44584176"/>
      </c:barChart>
      <c:catAx>
        <c:axId val="93631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84176"/>
        <c:crosses val="autoZero"/>
        <c:auto val="1"/>
        <c:lblAlgn val="ctr"/>
        <c:lblOffset val="100"/>
        <c:noMultiLvlLbl val="0"/>
      </c:catAx>
      <c:valAx>
        <c:axId val="44584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31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C5F-46E3-4C5E-937A-93874AF7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49F-49C6-4E87-8CD5-DF8770F8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EBF-5004-4342-9C15-CBC2B28F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72C-7669-4D55-9409-1DD6CCB3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6FD-68A7-4D25-8E50-899729A1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688-F008-42BC-BA3F-4FBAAD47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F0B-21F5-481E-8FB1-22ED96FE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1FD-A6BF-4388-9E37-8C89837F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CCE-4BE6-4A9F-866E-1144C907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212-7322-4A28-8E14-3C7DF7B3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890-780F-4854-961A-69CA192E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27F-5260-4721-9DE9-9E41B93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F20C7-4D82-4564-A168-FEF84D3DF7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