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81003"/>
        <c:axId val="1057836"/>
      </c:barChart>
      <c:catAx>
        <c:axId val="80081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7836"/>
        <c:crosses val="autoZero"/>
        <c:auto val="1"/>
        <c:lblAlgn val="ctr"/>
        <c:lblOffset val="100"/>
        <c:noMultiLvlLbl val="0"/>
      </c:catAx>
      <c:valAx>
        <c:axId val="1057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81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BAE-B2F2-42D6-801E-265289D1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E23-1FBD-4683-8E73-FA52F6F0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3A2-6790-4B1E-8F70-D50748E4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469-FD23-4F44-8C13-4890E14C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697-A1E0-4B6C-BBF9-61A8B3B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6F9-A6F6-4302-9C33-25B364D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559-F176-4AF6-AB46-2AE44E2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F6E-4887-4A56-81A1-6C8128B2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7AD-0723-4B67-B558-8461A5A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EC5-32A5-4193-A6BC-DD26928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FCF-F111-4F14-9FDB-A6A0C09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2E9-F144-4528-B762-9D55AD55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F8A9B-DAFF-4941-A28F-9CF783A08C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