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02891"/>
        <c:axId val="4020102"/>
      </c:barChart>
      <c:catAx>
        <c:axId val="93602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0102"/>
        <c:crosses val="autoZero"/>
        <c:auto val="1"/>
        <c:lblAlgn val="ctr"/>
        <c:lblOffset val="100"/>
        <c:noMultiLvlLbl val="0"/>
      </c:catAx>
      <c:valAx>
        <c:axId val="4020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02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268-9818-4346-9DF2-381C189A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430-B9BC-4069-B03E-07119683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468-C628-470F-815F-36B7E44A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558-5C33-49CB-AC83-28722ADC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A38-E345-49B7-95CA-6B346BD4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E62-5284-4635-B637-096ABA10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B48-88EB-45C2-8329-3E05FA29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770-0D0B-4120-AE44-BEBC2999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38C-108D-4272-9FC6-25B86DFD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1D7-B3E3-46B3-8EDE-B2B741C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E1F-3D75-463B-8F5C-ED932CC6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DC6-F1F9-48F9-8068-0C61E001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36598-C1B5-4444-8294-F8E034931F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